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png" ContentType="image/png"/>
  <Override PartName="/ppt/media/image7.jpeg" ContentType="image/jpeg"/>
  <Override PartName="/ppt/media/image20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09751BA1-5A6C-4146-A3BC-79D26E2197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82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876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9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876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9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30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10       T.Tammet     IT sissejuhatus loeng 1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B80E22EB-1823-46DF-A6EE-7A031F12035D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54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101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106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111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118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124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131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138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142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(and Isn’t) a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omput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device which takes data in one form, uses it, and produces a different form of information which is related to (but not the same as) the original dat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ctronic computers versus Mechanical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eneral-purpose versus Special-purpose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igital versus Analog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evaade kursuse eesmärkid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imumisajad, lek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ad ja eesmärg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59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ctronic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structed from transistors that use electricity to fun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chanical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o not use electricity to fun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structed of a combination of gears, levers and spring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eneral-purpose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re not manufactured to do any one th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ngeable to do any task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pecial-purpose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nufactured to do a predetermined task or set of tas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al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that functions in discretely varying quantiti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es or gives results that are also discretely vary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alog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that functions in continuously varying quantiti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es or gives results that are also continuously vary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038480" y="3124080"/>
            <a:ext cx="4800600" cy="682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467480" y="4800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General-Purpose Digital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General-Purpose Digital Compu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ccepts information of many kind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nges it in a way that is controlled by huma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sents results in a way usable by huma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pist ja traadist mitteprogr.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38440" y="1878120"/>
            <a:ext cx="5769000" cy="315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tvustada edaspidiseid teemasid/kursusi stuudiumi vält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Kursus EI ÕPETA elementaarset arvutikasutamist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64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7920000" cy="576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9280" y="360360"/>
            <a:ext cx="8820360" cy="575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IT on siiamaani arenenud ja mida võiks lähiaastatel oodat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69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498760" y="2556000"/>
            <a:ext cx="1554120" cy="3386520"/>
            <a:chOff x="2498760" y="2556000"/>
            <a:chExt cx="1554120" cy="3386520"/>
          </a:xfrm>
        </p:grpSpPr>
        <p:sp>
          <p:nvSpPr>
            <p:cNvPr id="202" name=""/>
            <p:cNvSpPr/>
            <p:nvPr/>
          </p:nvSpPr>
          <p:spPr>
            <a:xfrm>
              <a:off x="2498760" y="2556000"/>
              <a:ext cx="1554120" cy="3376440"/>
            </a:xfrm>
            <a:custGeom>
              <a:avLst/>
              <a:gdLst>
                <a:gd name="textAreaLeft" fmla="*/ 360 w 1554120"/>
                <a:gd name="textAreaRight" fmla="*/ 1553760 w 1554120"/>
                <a:gd name="textAreaTop" fmla="*/ 360 h 3376440"/>
                <a:gd name="textAreaBottom" fmla="*/ 3376080 h 3376440"/>
              </a:gdLst>
              <a:ahLst/>
              <a:rect l="textAreaLeft" t="textAreaTop" r="textAreaRight" b="textAreaBottom"/>
              <a:pathLst>
                <a:path w="21600" h="46922">
                  <a:moveTo>
                    <a:pt x="22" y="0"/>
                  </a:moveTo>
                  <a:arcTo wR="22" hR="22" stAng="16200000" swAng="-5400000"/>
                  <a:lnTo>
                    <a:pt x="0" y="46900"/>
                  </a:lnTo>
                  <a:arcTo wR="22" hR="22" stAng="10800000" swAng="-5400000"/>
                  <a:lnTo>
                    <a:pt x="21578" y="46922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2498760" y="2556000"/>
              <a:ext cx="1554120" cy="3386520"/>
              <a:chOff x="2498760" y="2556000"/>
              <a:chExt cx="1554120" cy="3386520"/>
            </a:xfrm>
          </p:grpSpPr>
          <p:sp>
            <p:nvSpPr>
              <p:cNvPr id="204" name=""/>
              <p:cNvSpPr/>
              <p:nvPr/>
            </p:nvSpPr>
            <p:spPr>
              <a:xfrm>
                <a:off x="2498760" y="2556000"/>
                <a:ext cx="1554120" cy="3376440"/>
              </a:xfrm>
              <a:custGeom>
                <a:avLst/>
                <a:gdLst>
                  <a:gd name="textAreaLeft" fmla="*/ 360 w 1554120"/>
                  <a:gd name="textAreaRight" fmla="*/ 1553760 w 1554120"/>
                  <a:gd name="textAreaTop" fmla="*/ 360 h 3376440"/>
                  <a:gd name="textAreaBottom" fmla="*/ 3376080 h 3376440"/>
                </a:gdLst>
                <a:ahLst/>
                <a:rect l="textAreaLeft" t="textAreaTop" r="textAreaRight" b="textAreaBottom"/>
                <a:pathLst>
                  <a:path w="21600" h="46922">
                    <a:moveTo>
                      <a:pt x="22" y="0"/>
                    </a:moveTo>
                    <a:arcTo wR="22" hR="22" stAng="16200000" swAng="-5400000"/>
                    <a:lnTo>
                      <a:pt x="0" y="46900"/>
                    </a:lnTo>
                    <a:arcTo wR="22" hR="22" stAng="10800000" swAng="-5400000"/>
                    <a:lnTo>
                      <a:pt x="21578" y="46922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49876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4722840" y="3809880"/>
            <a:ext cx="2208240" cy="460440"/>
            <a:chOff x="4722840" y="3809880"/>
            <a:chExt cx="2208240" cy="460440"/>
          </a:xfrm>
        </p:grpSpPr>
        <p:sp>
          <p:nvSpPr>
            <p:cNvPr id="207" name=""/>
            <p:cNvSpPr/>
            <p:nvPr/>
          </p:nvSpPr>
          <p:spPr>
            <a:xfrm>
              <a:off x="4724280" y="3809880"/>
              <a:ext cx="220356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4722840" y="3809880"/>
              <a:ext cx="2208240" cy="460440"/>
              <a:chOff x="4722840" y="3809880"/>
              <a:chExt cx="2208240" cy="460440"/>
            </a:xfrm>
          </p:grpSpPr>
          <p:sp>
            <p:nvSpPr>
              <p:cNvPr id="209" name=""/>
              <p:cNvSpPr/>
              <p:nvPr/>
            </p:nvSpPr>
            <p:spPr>
              <a:xfrm>
                <a:off x="4724280" y="3809880"/>
                <a:ext cx="2203560" cy="45576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72284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" name="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990720" y="3352680"/>
            <a:ext cx="7681680" cy="1191960"/>
            <a:chOff x="990720" y="3352680"/>
            <a:chExt cx="7681680" cy="1191960"/>
          </a:xfrm>
        </p:grpSpPr>
        <p:sp>
          <p:nvSpPr>
            <p:cNvPr id="215" name=""/>
            <p:cNvSpPr/>
            <p:nvPr/>
          </p:nvSpPr>
          <p:spPr>
            <a:xfrm>
              <a:off x="990720" y="3352680"/>
              <a:ext cx="7681680" cy="118584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990720" y="3352680"/>
              <a:ext cx="7681680" cy="1191960"/>
              <a:chOff x="990720" y="3352680"/>
              <a:chExt cx="7681680" cy="1191960"/>
            </a:xfrm>
          </p:grpSpPr>
          <p:sp>
            <p:nvSpPr>
              <p:cNvPr id="217" name=""/>
              <p:cNvSpPr/>
              <p:nvPr/>
            </p:nvSpPr>
            <p:spPr>
              <a:xfrm>
                <a:off x="990720" y="3352680"/>
                <a:ext cx="7681680" cy="118584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"/>
          <p:cNvGrpSpPr/>
          <p:nvPr/>
        </p:nvGrpSpPr>
        <p:grpSpPr>
          <a:xfrm>
            <a:off x="2666880" y="2514600"/>
            <a:ext cx="1911600" cy="460440"/>
            <a:chOff x="2666880" y="2514600"/>
            <a:chExt cx="1911600" cy="460440"/>
          </a:xfrm>
        </p:grpSpPr>
        <p:sp>
          <p:nvSpPr>
            <p:cNvPr id="220" name=""/>
            <p:cNvSpPr/>
            <p:nvPr/>
          </p:nvSpPr>
          <p:spPr>
            <a:xfrm>
              <a:off x="2666880" y="2514600"/>
              <a:ext cx="191160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2666880" y="2514600"/>
              <a:ext cx="1911600" cy="460440"/>
              <a:chOff x="2666880" y="2514600"/>
              <a:chExt cx="1911600" cy="460440"/>
            </a:xfrm>
          </p:grpSpPr>
          <p:sp>
            <p:nvSpPr>
              <p:cNvPr id="222" name=""/>
              <p:cNvSpPr/>
              <p:nvPr/>
            </p:nvSpPr>
            <p:spPr>
              <a:xfrm>
                <a:off x="2666880" y="2514600"/>
                <a:ext cx="1911600" cy="45576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66688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990720" y="3352680"/>
            <a:ext cx="7224480" cy="2389320"/>
            <a:chOff x="990720" y="3352680"/>
            <a:chExt cx="7224480" cy="2389320"/>
          </a:xfrm>
        </p:grpSpPr>
        <p:sp>
          <p:nvSpPr>
            <p:cNvPr id="231" name=""/>
            <p:cNvSpPr/>
            <p:nvPr/>
          </p:nvSpPr>
          <p:spPr>
            <a:xfrm>
              <a:off x="990720" y="3352680"/>
              <a:ext cx="7224480" cy="228132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990720" y="3352680"/>
              <a:ext cx="7224480" cy="2389320"/>
              <a:chOff x="990720" y="3352680"/>
              <a:chExt cx="7224480" cy="2389320"/>
            </a:xfrm>
          </p:grpSpPr>
          <p:sp>
            <p:nvSpPr>
              <p:cNvPr id="233" name=""/>
              <p:cNvSpPr/>
              <p:nvPr/>
            </p:nvSpPr>
            <p:spPr>
              <a:xfrm>
                <a:off x="990720" y="3352680"/>
                <a:ext cx="7224480" cy="228132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992160" y="3352680"/>
                <a:ext cx="7182000" cy="238932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2666160" y="2514600"/>
            <a:ext cx="1836000" cy="460440"/>
            <a:chOff x="2666160" y="2514600"/>
            <a:chExt cx="1836000" cy="460440"/>
          </a:xfrm>
        </p:grpSpPr>
        <p:sp>
          <p:nvSpPr>
            <p:cNvPr id="236" name=""/>
            <p:cNvSpPr/>
            <p:nvPr/>
          </p:nvSpPr>
          <p:spPr>
            <a:xfrm>
              <a:off x="2666880" y="2514600"/>
              <a:ext cx="183528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2666160" y="2514600"/>
              <a:ext cx="1836000" cy="460440"/>
              <a:chOff x="2666160" y="2514600"/>
              <a:chExt cx="1836000" cy="460440"/>
            </a:xfrm>
          </p:grpSpPr>
          <p:sp>
            <p:nvSpPr>
              <p:cNvPr id="238" name=""/>
              <p:cNvSpPr/>
              <p:nvPr/>
            </p:nvSpPr>
            <p:spPr>
              <a:xfrm>
                <a:off x="2666880" y="2514600"/>
                <a:ext cx="1835280" cy="45576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6616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838080" y="2438280"/>
            <a:ext cx="2130480" cy="1009080"/>
            <a:chOff x="838080" y="2438280"/>
            <a:chExt cx="2130480" cy="1009080"/>
          </a:xfrm>
        </p:grpSpPr>
        <p:sp>
          <p:nvSpPr>
            <p:cNvPr id="246" name=""/>
            <p:cNvSpPr/>
            <p:nvPr/>
          </p:nvSpPr>
          <p:spPr>
            <a:xfrm>
              <a:off x="838080" y="2438280"/>
              <a:ext cx="2125800" cy="100512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838080" y="2438280"/>
              <a:ext cx="2130480" cy="1009080"/>
              <a:chOff x="838080" y="2438280"/>
              <a:chExt cx="2130480" cy="1009080"/>
            </a:xfrm>
          </p:grpSpPr>
          <p:sp>
            <p:nvSpPr>
              <p:cNvPr id="248" name=""/>
              <p:cNvSpPr/>
              <p:nvPr/>
            </p:nvSpPr>
            <p:spPr>
              <a:xfrm>
                <a:off x="838080" y="2438280"/>
                <a:ext cx="2125800" cy="100512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3808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762120" y="3511440"/>
            <a:ext cx="2227320" cy="997200"/>
            <a:chOff x="762120" y="3511440"/>
            <a:chExt cx="2227320" cy="997200"/>
          </a:xfrm>
        </p:grpSpPr>
        <p:sp>
          <p:nvSpPr>
            <p:cNvPr id="251" name=""/>
            <p:cNvSpPr/>
            <p:nvPr/>
          </p:nvSpPr>
          <p:spPr>
            <a:xfrm>
              <a:off x="762120" y="3511440"/>
              <a:ext cx="2227320" cy="9972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762120" y="3511440"/>
              <a:ext cx="2227320" cy="997200"/>
              <a:chOff x="762120" y="3511440"/>
              <a:chExt cx="2227320" cy="997200"/>
            </a:xfrm>
          </p:grpSpPr>
          <p:sp>
            <p:nvSpPr>
              <p:cNvPr id="253" name=""/>
              <p:cNvSpPr/>
              <p:nvPr/>
            </p:nvSpPr>
            <p:spPr>
              <a:xfrm>
                <a:off x="762120" y="3511440"/>
                <a:ext cx="2227320" cy="9972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12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733920" y="2438280"/>
            <a:ext cx="2225880" cy="734760"/>
            <a:chOff x="3733920" y="2438280"/>
            <a:chExt cx="2225880" cy="734760"/>
          </a:xfrm>
        </p:grpSpPr>
        <p:sp>
          <p:nvSpPr>
            <p:cNvPr id="263" name=""/>
            <p:cNvSpPr/>
            <p:nvPr/>
          </p:nvSpPr>
          <p:spPr>
            <a:xfrm>
              <a:off x="3733920" y="2438280"/>
              <a:ext cx="2214360" cy="73044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733920" y="2438280"/>
              <a:ext cx="2225880" cy="734760"/>
              <a:chOff x="3733920" y="2438280"/>
              <a:chExt cx="2225880" cy="734760"/>
            </a:xfrm>
          </p:grpSpPr>
          <p:sp>
            <p:nvSpPr>
              <p:cNvPr id="265" name=""/>
              <p:cNvSpPr/>
              <p:nvPr/>
            </p:nvSpPr>
            <p:spPr>
              <a:xfrm>
                <a:off x="3733920" y="2438280"/>
                <a:ext cx="2214360" cy="73044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3644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3657600" y="3359160"/>
            <a:ext cx="2227320" cy="996840"/>
            <a:chOff x="3657600" y="3359160"/>
            <a:chExt cx="2227320" cy="996840"/>
          </a:xfrm>
        </p:grpSpPr>
        <p:sp>
          <p:nvSpPr>
            <p:cNvPr id="268" name=""/>
            <p:cNvSpPr/>
            <p:nvPr/>
          </p:nvSpPr>
          <p:spPr>
            <a:xfrm>
              <a:off x="3657600" y="3359160"/>
              <a:ext cx="2227320" cy="99684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657600" y="3359160"/>
              <a:ext cx="2227320" cy="996840"/>
              <a:chOff x="3657600" y="3359160"/>
              <a:chExt cx="2227320" cy="996840"/>
            </a:xfrm>
          </p:grpSpPr>
          <p:sp>
            <p:nvSpPr>
              <p:cNvPr id="270" name=""/>
              <p:cNvSpPr/>
              <p:nvPr/>
            </p:nvSpPr>
            <p:spPr>
              <a:xfrm>
                <a:off x="3657600" y="3359160"/>
                <a:ext cx="2227320" cy="996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65760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90" name=""/>
            <p:cNvSpPr/>
            <p:nvPr/>
          </p:nvSpPr>
          <p:spPr>
            <a:xfrm>
              <a:off x="6477120" y="2438280"/>
              <a:ext cx="1947600" cy="100512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92" name=""/>
              <p:cNvSpPr/>
              <p:nvPr/>
            </p:nvSpPr>
            <p:spPr>
              <a:xfrm>
                <a:off x="6477120" y="2438280"/>
                <a:ext cx="1947600" cy="100512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5666760" y="4309200"/>
            <a:ext cx="593640" cy="554040"/>
            <a:chOff x="5666760" y="4309200"/>
            <a:chExt cx="593640" cy="554040"/>
          </a:xfrm>
        </p:grpSpPr>
        <p:sp>
          <p:nvSpPr>
            <p:cNvPr id="295" name=""/>
            <p:cNvSpPr/>
            <p:nvPr/>
          </p:nvSpPr>
          <p:spPr>
            <a:xfrm rot="1980000">
              <a:off x="5721120" y="4414680"/>
              <a:ext cx="487080" cy="3351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666760" y="4311000"/>
              <a:ext cx="593640" cy="552240"/>
              <a:chOff x="5666760" y="4311000"/>
              <a:chExt cx="593640" cy="552240"/>
            </a:xfrm>
          </p:grpSpPr>
          <p:sp>
            <p:nvSpPr>
              <p:cNvPr id="297" name=""/>
              <p:cNvSpPr/>
              <p:nvPr/>
            </p:nvSpPr>
            <p:spPr>
              <a:xfrm rot="1980000">
                <a:off x="5721120" y="4416480"/>
                <a:ext cx="487080" cy="33480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980000">
                <a:off x="5718960" y="441972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5208120" y="4297320"/>
            <a:ext cx="596520" cy="577080"/>
            <a:chOff x="5208120" y="4297320"/>
            <a:chExt cx="596520" cy="577080"/>
          </a:xfrm>
        </p:grpSpPr>
        <p:sp>
          <p:nvSpPr>
            <p:cNvPr id="300" name=""/>
            <p:cNvSpPr/>
            <p:nvPr/>
          </p:nvSpPr>
          <p:spPr>
            <a:xfrm rot="2400000">
              <a:off x="5258880" y="4419720"/>
              <a:ext cx="48924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5208120" y="4297320"/>
              <a:ext cx="596520" cy="577080"/>
              <a:chOff x="5208120" y="4297320"/>
              <a:chExt cx="596520" cy="577080"/>
            </a:xfrm>
          </p:grpSpPr>
          <p:sp>
            <p:nvSpPr>
              <p:cNvPr id="302" name=""/>
              <p:cNvSpPr/>
              <p:nvPr/>
            </p:nvSpPr>
            <p:spPr>
              <a:xfrm rot="2400000">
                <a:off x="5258880" y="4419720"/>
                <a:ext cx="489240" cy="33660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400000">
                <a:off x="5265000" y="441432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4753800" y="4299120"/>
            <a:ext cx="592560" cy="567720"/>
            <a:chOff x="4753800" y="4299120"/>
            <a:chExt cx="592560" cy="567720"/>
          </a:xfrm>
        </p:grpSpPr>
        <p:sp>
          <p:nvSpPr>
            <p:cNvPr id="305" name=""/>
            <p:cNvSpPr/>
            <p:nvPr/>
          </p:nvSpPr>
          <p:spPr>
            <a:xfrm rot="2280000">
              <a:off x="4806720" y="4413240"/>
              <a:ext cx="48708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4753800" y="4299120"/>
              <a:ext cx="592560" cy="567720"/>
              <a:chOff x="4753800" y="4299120"/>
              <a:chExt cx="592560" cy="567720"/>
            </a:xfrm>
          </p:grpSpPr>
          <p:sp>
            <p:nvSpPr>
              <p:cNvPr id="307" name=""/>
              <p:cNvSpPr/>
              <p:nvPr/>
            </p:nvSpPr>
            <p:spPr>
              <a:xfrm rot="2280000">
                <a:off x="4806720" y="4413240"/>
                <a:ext cx="487080" cy="33660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2280000">
                <a:off x="4806000" y="441432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4368600" y="4302360"/>
            <a:ext cx="595800" cy="558000"/>
            <a:chOff x="4368600" y="4302360"/>
            <a:chExt cx="595800" cy="558000"/>
          </a:xfrm>
        </p:grpSpPr>
        <p:sp>
          <p:nvSpPr>
            <p:cNvPr id="310" name=""/>
            <p:cNvSpPr/>
            <p:nvPr/>
          </p:nvSpPr>
          <p:spPr>
            <a:xfrm rot="2100000">
              <a:off x="4420800" y="4411440"/>
              <a:ext cx="487440" cy="3362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4368600" y="4302360"/>
              <a:ext cx="595800" cy="558000"/>
              <a:chOff x="4368600" y="4302360"/>
              <a:chExt cx="595800" cy="558000"/>
            </a:xfrm>
          </p:grpSpPr>
          <p:sp>
            <p:nvSpPr>
              <p:cNvPr id="312" name=""/>
              <p:cNvSpPr/>
              <p:nvPr/>
            </p:nvSpPr>
            <p:spPr>
              <a:xfrm rot="2100000">
                <a:off x="4420800" y="4411440"/>
                <a:ext cx="487440" cy="33624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00000">
                <a:off x="4423680" y="44128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3852000" y="4269240"/>
            <a:ext cx="669600" cy="638280"/>
            <a:chOff x="3852000" y="4269240"/>
            <a:chExt cx="669600" cy="638280"/>
          </a:xfrm>
        </p:grpSpPr>
        <p:sp>
          <p:nvSpPr>
            <p:cNvPr id="315" name=""/>
            <p:cNvSpPr/>
            <p:nvPr/>
          </p:nvSpPr>
          <p:spPr>
            <a:xfrm rot="2400000">
              <a:off x="3893760" y="4419720"/>
              <a:ext cx="588960" cy="33480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852000" y="4269240"/>
              <a:ext cx="669600" cy="638280"/>
              <a:chOff x="3852000" y="4269240"/>
              <a:chExt cx="669600" cy="638280"/>
            </a:xfrm>
          </p:grpSpPr>
          <p:sp>
            <p:nvSpPr>
              <p:cNvPr id="317" name=""/>
              <p:cNvSpPr/>
              <p:nvPr/>
            </p:nvSpPr>
            <p:spPr>
              <a:xfrm rot="2400000">
                <a:off x="3893760" y="4419720"/>
                <a:ext cx="588960" cy="33480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400000">
                <a:off x="3891600" y="441900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6629400" y="4724280"/>
            <a:ext cx="411120" cy="1740600"/>
            <a:chOff x="6629400" y="4724280"/>
            <a:chExt cx="411120" cy="1740600"/>
          </a:xfrm>
        </p:grpSpPr>
        <p:sp>
          <p:nvSpPr>
            <p:cNvPr id="320" name=""/>
            <p:cNvSpPr/>
            <p:nvPr/>
          </p:nvSpPr>
          <p:spPr>
            <a:xfrm>
              <a:off x="6629400" y="4724280"/>
              <a:ext cx="411120" cy="1738440"/>
            </a:xfrm>
            <a:custGeom>
              <a:avLst/>
              <a:gdLst>
                <a:gd name="textAreaLeft" fmla="*/ 360 w 411120"/>
                <a:gd name="textAreaRight" fmla="*/ 410760 w 411120"/>
                <a:gd name="textAreaTop" fmla="*/ 360 h 1738440"/>
                <a:gd name="textAreaBottom" fmla="*/ 1738080 h 1738440"/>
              </a:gdLst>
              <a:ahLst/>
              <a:rect l="textAreaLeft" t="textAreaTop" r="textAreaRight" b="textAreaBottom"/>
              <a:pathLst>
                <a:path w="21600" h="91276">
                  <a:moveTo>
                    <a:pt x="83" y="0"/>
                  </a:moveTo>
                  <a:arcTo wR="83" hR="83" stAng="16200000" swAng="-5400000"/>
                  <a:lnTo>
                    <a:pt x="0" y="91193"/>
                  </a:lnTo>
                  <a:arcTo wR="83" hR="83" stAng="10800000" swAng="-5400000"/>
                  <a:lnTo>
                    <a:pt x="21517" y="91276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629400" y="4724280"/>
              <a:ext cx="411120" cy="1740600"/>
              <a:chOff x="6629400" y="4724280"/>
              <a:chExt cx="411120" cy="1740600"/>
            </a:xfrm>
          </p:grpSpPr>
          <p:sp>
            <p:nvSpPr>
              <p:cNvPr id="322" name=""/>
              <p:cNvSpPr/>
              <p:nvPr/>
            </p:nvSpPr>
            <p:spPr>
              <a:xfrm>
                <a:off x="6629400" y="4724280"/>
                <a:ext cx="411120" cy="1738440"/>
              </a:xfrm>
              <a:custGeom>
                <a:avLst/>
                <a:gdLst>
                  <a:gd name="textAreaLeft" fmla="*/ 360 w 411120"/>
                  <a:gd name="textAreaRight" fmla="*/ 410760 w 411120"/>
                  <a:gd name="textAreaTop" fmla="*/ 360 h 1738440"/>
                  <a:gd name="textAreaBottom" fmla="*/ 1738080 h 1738440"/>
                </a:gdLst>
                <a:ahLst/>
                <a:rect l="textAreaLeft" t="textAreaTop" r="textAreaRight" b="textAreaBottom"/>
                <a:pathLst>
                  <a:path w="21600" h="91276">
                    <a:moveTo>
                      <a:pt x="83" y="0"/>
                    </a:moveTo>
                    <a:arcTo wR="83" hR="83" stAng="16200000" swAng="-5400000"/>
                    <a:lnTo>
                      <a:pt x="0" y="91193"/>
                    </a:lnTo>
                    <a:arcTo wR="83" hR="83" stAng="10800000" swAng="-5400000"/>
                    <a:lnTo>
                      <a:pt x="21517" y="91276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62940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2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457760" y="5562720"/>
            <a:ext cx="3236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7772400" y="3419280"/>
            <a:ext cx="1440" cy="215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990720" y="5533920"/>
            <a:ext cx="3502080" cy="510120"/>
            <a:chOff x="990720" y="5533920"/>
            <a:chExt cx="3502080" cy="510120"/>
          </a:xfrm>
        </p:grpSpPr>
        <p:sp>
          <p:nvSpPr>
            <p:cNvPr id="328" name=""/>
            <p:cNvSpPr/>
            <p:nvPr/>
          </p:nvSpPr>
          <p:spPr>
            <a:xfrm>
              <a:off x="990720" y="5611680"/>
              <a:ext cx="3502080" cy="35748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990720" y="5533920"/>
              <a:ext cx="3500280" cy="510120"/>
              <a:chOff x="990720" y="5533920"/>
              <a:chExt cx="3500280" cy="510120"/>
            </a:xfrm>
          </p:grpSpPr>
          <p:sp>
            <p:nvSpPr>
              <p:cNvPr id="330" name=""/>
              <p:cNvSpPr/>
              <p:nvPr/>
            </p:nvSpPr>
            <p:spPr>
              <a:xfrm>
                <a:off x="990720" y="5610240"/>
                <a:ext cx="3500280" cy="35712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0720" y="5533920"/>
                <a:ext cx="3500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5714640" y="2133720"/>
            <a:ext cx="2845440" cy="4209480"/>
            <a:chOff x="5714640" y="2133720"/>
            <a:chExt cx="2845440" cy="4209480"/>
          </a:xfrm>
        </p:grpSpPr>
        <p:sp>
          <p:nvSpPr>
            <p:cNvPr id="344" name=""/>
            <p:cNvSpPr/>
            <p:nvPr/>
          </p:nvSpPr>
          <p:spPr>
            <a:xfrm>
              <a:off x="5715000" y="2133720"/>
              <a:ext cx="2811600" cy="4186080"/>
            </a:xfrm>
            <a:custGeom>
              <a:avLst/>
              <a:gdLst>
                <a:gd name="textAreaLeft" fmla="*/ 360 w 2811600"/>
                <a:gd name="textAreaRight" fmla="*/ 2811240 w 2811600"/>
                <a:gd name="textAreaTop" fmla="*/ 360 h 4186080"/>
                <a:gd name="textAreaBottom" fmla="*/ 4185720 h 4186080"/>
              </a:gdLst>
              <a:ahLst/>
              <a:rect l="textAreaLeft" t="textAreaTop" r="textAreaRight" b="textAreaBottom"/>
              <a:pathLst>
                <a:path w="21600" h="32158">
                  <a:moveTo>
                    <a:pt x="12" y="0"/>
                  </a:moveTo>
                  <a:arcTo wR="12" hR="12" stAng="16200000" swAng="-5400000"/>
                  <a:lnTo>
                    <a:pt x="0" y="32146"/>
                  </a:lnTo>
                  <a:arcTo wR="12" hR="12" stAng="10800000" swAng="-5400000"/>
                  <a:lnTo>
                    <a:pt x="21588" y="32158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5714640" y="2133720"/>
              <a:ext cx="2845440" cy="4209480"/>
              <a:chOff x="5714640" y="2133720"/>
              <a:chExt cx="2845440" cy="4209480"/>
            </a:xfrm>
          </p:grpSpPr>
          <p:sp>
            <p:nvSpPr>
              <p:cNvPr id="346" name=""/>
              <p:cNvSpPr/>
              <p:nvPr/>
            </p:nvSpPr>
            <p:spPr>
              <a:xfrm>
                <a:off x="5715000" y="2133720"/>
                <a:ext cx="2811600" cy="4186080"/>
              </a:xfrm>
              <a:custGeom>
                <a:avLst/>
                <a:gdLst>
                  <a:gd name="textAreaLeft" fmla="*/ 360 w 2811600"/>
                  <a:gd name="textAreaRight" fmla="*/ 2811240 w 2811600"/>
                  <a:gd name="textAreaTop" fmla="*/ 360 h 4186080"/>
                  <a:gd name="textAreaBottom" fmla="*/ 4185720 h 4186080"/>
                </a:gdLst>
                <a:ahLst/>
                <a:rect l="textAreaLeft" t="textAreaTop" r="textAreaRight" b="textAreaBottom"/>
                <a:pathLst>
                  <a:path w="21600" h="32158">
                    <a:moveTo>
                      <a:pt x="12" y="0"/>
                    </a:moveTo>
                    <a:arcTo wR="12" hR="12" stAng="16200000" swAng="-5400000"/>
                    <a:lnTo>
                      <a:pt x="0" y="32146"/>
                    </a:lnTo>
                    <a:arcTo wR="12" hR="12" stAng="10800000" swAng="-5400000"/>
                    <a:lnTo>
                      <a:pt x="21588" y="32158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1464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aeg, koht, arvestus, praktik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16 loengu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 kohustuslikku võrgus täidetavat kontrolltöö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74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962640" y="2362320"/>
            <a:ext cx="6998400" cy="3386160"/>
            <a:chOff x="962640" y="2362320"/>
            <a:chExt cx="6998400" cy="3386160"/>
          </a:xfrm>
        </p:grpSpPr>
        <p:sp>
          <p:nvSpPr>
            <p:cNvPr id="356" name=""/>
            <p:cNvSpPr/>
            <p:nvPr/>
          </p:nvSpPr>
          <p:spPr>
            <a:xfrm>
              <a:off x="990720" y="2362320"/>
              <a:ext cx="6931080" cy="337824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962640" y="2362320"/>
              <a:ext cx="6998400" cy="3386160"/>
              <a:chOff x="962640" y="2362320"/>
              <a:chExt cx="6998400" cy="3386160"/>
            </a:xfrm>
          </p:grpSpPr>
          <p:sp>
            <p:nvSpPr>
              <p:cNvPr id="358" name=""/>
              <p:cNvSpPr/>
              <p:nvPr/>
            </p:nvSpPr>
            <p:spPr>
              <a:xfrm>
                <a:off x="990720" y="2362320"/>
                <a:ext cx="6929280" cy="337644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962640" y="2362320"/>
                <a:ext cx="6998400" cy="3386160"/>
                <a:chOff x="962640" y="2362320"/>
                <a:chExt cx="6998400" cy="33861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990720" y="2362320"/>
                  <a:ext cx="6929280" cy="337644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962640" y="2362320"/>
                  <a:ext cx="699840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23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 vs diskre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373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adus: teha võimalikult keerulisi asju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mertsrakendused: kliendile meelepäraseid as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378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060720" y="251928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55840" y="2879640"/>
            <a:ext cx="5024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eneriasjandus: teha kõike lihtsama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385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390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jaloo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395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O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 osa materjale ilmub loengute eel või järel (reeglina samal päeval)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k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Alati on olemas loengu üldplaan ja põhipunktid, kuid palju seletavaid detaile on võrgus puud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www.lambda.ee/index/itv0010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peamiselt David Ecki praktikumide osi ja tarkvar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79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kohustuslikku kirjandu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58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irjan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ul Grahami esse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w Hacker’s Dictionar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: mõtlemisest tõestamisen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Cathedral and the Bazaa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nu manifes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red Brooks: klassikalised artikl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oovitatavad igapäevaselt loetavad ling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news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slashdot.org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dzone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digg.com või www.reddit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 vaata kursuse saidilt juurde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84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 www.lambda.ee/index/itv0010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89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14400" y="298080"/>
            <a:ext cx="7767720" cy="312840"/>
            <a:chOff x="914400" y="298080"/>
            <a:chExt cx="7767720" cy="312840"/>
          </a:xfrm>
        </p:grpSpPr>
        <p:sp>
          <p:nvSpPr>
            <p:cNvPr id="94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80320" y="298080"/>
              <a:ext cx="1800" cy="3128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